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Overview of the best fit framework synthes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elected a priori themes deconstituted from the FITT (Fit between Individuals, Task and Technology) framework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uilding on the a priori frame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tep 7—Hypothetical revised FITT (Fit between Individuals, Task and Technology) framework 7 incorporating new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to build up the actionable knowledge base: the role of ‘best fit’ framework synthesis for studies of improvement in health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ndrew Booth, and Christopher Carr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 Qual S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4(11):700-7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ctober 22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verview of the best fit framework synthesis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94240" y="1079640"/>
            <a:ext cx="28987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4240" y="6583320"/>
            <a:ext cx="4319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rew Booth, and Christopher Carroll BMJ Qual Saf 2015;24:700-7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ed a priori themes deconstituted from the FITT (Fit between Individuals, Task and Technology) framework 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60680" y="1079640"/>
            <a:ext cx="316548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606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rew Booth, and Christopher Carroll BMJ Qual Saf 2015;24:700-7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uilding on the a priori frame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92360" y="1079640"/>
            <a:ext cx="490068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23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rew Booth, and Christopher Carroll BMJ Qual Saf 2015;24:700-7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7—Hypothetical revised FITT (Fit between Individuals, Task and Technology) framework 7 incorporating new concep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800" y="2092320"/>
            <a:ext cx="8604360" cy="336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rew Booth, and Christopher Carroll BMJ Qual Saf 2015;24:700-7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BMJ Publishing Group Ltd and the Health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