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ypes of stakeholders. Adapted from Ref.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ncing stakeholder needs in the evaluation of healthcare quality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Laura C Leviton, and Lori Melich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 Qual S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25(10):803-8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ptember 19,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BMJ Publishing Group Ltd and the Health Found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ypes of stakehold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9800" y="1405080"/>
            <a:ext cx="8604360" cy="4741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ura C Leviton, and Lori Melichar BMJ Qual Saf 2016;25:803-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BMJ Publishing Group Ltd and the Health Found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