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eta-analytical summary of the effect of probed versus revealed patient contextual factors on contextualisation of 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rs contextualise care more often when they discover patient context by asking: meta-analysis of three primary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lan Schwartz, Saul J Weiner, Amy Binns-Calvey, and Frances M Wea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 Qual S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5(3):159-1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18,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ta-analytical summary of the effect of probed versus revealed patient contextual factors on contextualisation of c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1366920"/>
            <a:ext cx="8604360" cy="481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an Schwartz et al. BMJ Qual Saf 2016;25:159-1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