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ey characteristics and findings of the Safer Patients Initiatives phase 2 (SPI2). This controlled before-and-after study evaluated a multi-component intervention using an organisation-wide approach to improve patient safety. The key components included interventions to facilitate generic improvement in the hospital system to reduce adverse events (such as building a good leadership to support a culture of safety as well as interventions targeting specific clinical processes that carry a relatively high risk of adverse events (such as procedures aiming to enhance infection control). Various outcomes were measured, including staff morale, culture and opinion, the quality of acute medical care and perioperative care, use of consumables for hand hygiene, adverse events and hospital mortality in older patients with acute respiratory disease, intensive care unit mortality, infection rates associated with healthcare and patients satisfaction. SPI2 was preceded by a pilot phase (SPI1) that provides data on the pre-implementation phase for certain end-points, including the two outcomes illustrated he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ey characteristics and findings of the Critical Pathways Intervention. This controlled before-and-after study compared the effects of a quality improvement initiative utilising critical pathway framework on post-operative length of stay in a large teaching hospital with concurrent data from 2-3 similar neighbouring hospitals without the intervention. Multidisciplinary teams identified critical steps in the care process and specified required actions and desirable outcomes for each step. Patients entered into critical pathways were monitored and various methods of benchmarking and feedback were used in pathway management. The primary outcome was post-operative length of stay. Hospital charges and other process and clinical outcomes were also examin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ey characteristics and findings of the EQHIV study. This controlled before-and-after study evaluated the effectiveness of the ‘Breakthrough Series’, a multi-institutional quality improvement collaborative led by Institute for Healthcare Improvement, on improving the quality of case for clinics treating HIV infected patients. The 16-month intervention involved a series of meetings (learning sessions) covering the theory and practice of quality improvement in the intervention clinics and sharing ideas and progress between them. The primary outcome measures were rates of optimal antiretroviral therapy use and control of HIV viral loa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ey characteristics and findings of the MERIT study. This cluster randomised controlled trial (RCT) investigated the effectiveness of introducing a medical emergency team (MET) that could be summoned when non-terminal hospital patients showed signs of physiological instability and deterioration. Staff in the intervention hospitals were trained over 4-months to identify and respond to patients requiring the attention of the team. The primary outcome was the combined incidence of cardiac arrests without a pre-existing not-for-resuscitation order. unplanned intensive care unit admissions and unexpected deaths measured before and after implem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Secular trends and evaluation of complex interventions: the rising tide phenomen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Yen-Fu Chen, Karla Hemming, Andrew J Stevens, and Richard J Lilfor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 Qual Saf</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5(5):303-31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pril 19, 2016</a:t>
            </a:r>
            <a:endParaRPr b="0" lang="en-US" sz="1800" spc="-1" strike="noStrike">
              <a:solidFill>
                <a:srgbClr val="000000"/>
              </a:solidFill>
              <a:latin typeface="Times New Roman"/>
            </a:endParaRPr>
          </a:p>
        </p:txBody>
      </p:sp>
      <p:sp>
        <p:nvSpPr>
          <p:cNvPr id="44"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748720" y="6840360"/>
            <a:ext cx="900000" cy="57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ey characteristics and findings of the Safer Patients Initiatives phase 2 (SPI2).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748720" y="6840360"/>
            <a:ext cx="900000" cy="576360"/>
          </a:xfrm>
          <a:prstGeom prst="rect">
            <a:avLst/>
          </a:prstGeom>
          <a:ln w="0">
            <a:noFill/>
          </a:ln>
        </p:spPr>
      </p:pic>
      <p:pic>
        <p:nvPicPr>
          <p:cNvPr id="48" name="" descr=""/>
          <p:cNvPicPr/>
          <p:nvPr/>
        </p:nvPicPr>
        <p:blipFill>
          <a:blip r:embed="rId2"/>
          <a:stretch/>
        </p:blipFill>
        <p:spPr>
          <a:xfrm>
            <a:off x="1803240" y="1079640"/>
            <a:ext cx="6478920" cy="5394240"/>
          </a:xfrm>
          <a:prstGeom prst="rect">
            <a:avLst/>
          </a:prstGeom>
          <a:ln w="0">
            <a:noFill/>
          </a:ln>
        </p:spPr>
      </p:pic>
      <p:sp>
        <p:nvSpPr>
          <p:cNvPr id="49" name=""/>
          <p:cNvSpPr/>
          <p:nvPr/>
        </p:nvSpPr>
        <p:spPr>
          <a:xfrm>
            <a:off x="1803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en-Fu Chen et al. BMJ Qual Saf 2016;25:303-310</a:t>
            </a:r>
            <a:endParaRPr b="0" lang="en-US" sz="1200" spc="-1" strike="noStrike">
              <a:solidFill>
                <a:srgbClr val="000000"/>
              </a:solidFill>
              <a:latin typeface="Times New Roman"/>
            </a:endParaRPr>
          </a:p>
        </p:txBody>
      </p:sp>
      <p:sp>
        <p:nvSpPr>
          <p:cNvPr id="50"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ey characteristics and findings of the Critical Pathways Intervent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748720" y="6840360"/>
            <a:ext cx="900000" cy="576360"/>
          </a:xfrm>
          <a:prstGeom prst="rect">
            <a:avLst/>
          </a:prstGeom>
          <a:ln w="0">
            <a:noFill/>
          </a:ln>
        </p:spPr>
      </p:pic>
      <p:pic>
        <p:nvPicPr>
          <p:cNvPr id="53" name="" descr=""/>
          <p:cNvPicPr/>
          <p:nvPr/>
        </p:nvPicPr>
        <p:blipFill>
          <a:blip r:embed="rId2"/>
          <a:stretch/>
        </p:blipFill>
        <p:spPr>
          <a:xfrm>
            <a:off x="739800" y="2027160"/>
            <a:ext cx="8604360" cy="349884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en-Fu Chen et al. BMJ Qual Saf 2016;25:303-310</a:t>
            </a:r>
            <a:endParaRPr b="0" lang="en-US" sz="1200" spc="-1" strike="noStrike">
              <a:solidFill>
                <a:srgbClr val="000000"/>
              </a:solidFill>
              <a:latin typeface="Times New Roman"/>
            </a:endParaRPr>
          </a:p>
        </p:txBody>
      </p:sp>
      <p:sp>
        <p:nvSpPr>
          <p:cNvPr id="55"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ey characteristics and findings of the EQHIV study.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748720" y="6840360"/>
            <a:ext cx="900000" cy="576360"/>
          </a:xfrm>
          <a:prstGeom prst="rect">
            <a:avLst/>
          </a:prstGeom>
          <a:ln w="0">
            <a:noFill/>
          </a:ln>
        </p:spPr>
      </p:pic>
      <p:pic>
        <p:nvPicPr>
          <p:cNvPr id="58" name="" descr=""/>
          <p:cNvPicPr/>
          <p:nvPr/>
        </p:nvPicPr>
        <p:blipFill>
          <a:blip r:embed="rId2"/>
          <a:stretch/>
        </p:blipFill>
        <p:spPr>
          <a:xfrm>
            <a:off x="2062080" y="1079640"/>
            <a:ext cx="5961240" cy="5394240"/>
          </a:xfrm>
          <a:prstGeom prst="rect">
            <a:avLst/>
          </a:prstGeom>
          <a:ln w="0">
            <a:noFill/>
          </a:ln>
        </p:spPr>
      </p:pic>
      <p:sp>
        <p:nvSpPr>
          <p:cNvPr id="59" name=""/>
          <p:cNvSpPr/>
          <p:nvPr/>
        </p:nvSpPr>
        <p:spPr>
          <a:xfrm>
            <a:off x="2062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en-Fu Chen et al. BMJ Qual Saf 2016;25:303-310</a:t>
            </a:r>
            <a:endParaRPr b="0" lang="en-US" sz="1200" spc="-1" strike="noStrike">
              <a:solidFill>
                <a:srgbClr val="000000"/>
              </a:solidFill>
              <a:latin typeface="Times New Roman"/>
            </a:endParaRPr>
          </a:p>
        </p:txBody>
      </p:sp>
      <p:sp>
        <p:nvSpPr>
          <p:cNvPr id="60"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ey characteristics and findings of the MERIT stud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748720" y="6840360"/>
            <a:ext cx="900000" cy="576360"/>
          </a:xfrm>
          <a:prstGeom prst="rect">
            <a:avLst/>
          </a:prstGeom>
          <a:ln w="0">
            <a:noFill/>
          </a:ln>
        </p:spPr>
      </p:pic>
      <p:pic>
        <p:nvPicPr>
          <p:cNvPr id="63" name="" descr=""/>
          <p:cNvPicPr/>
          <p:nvPr/>
        </p:nvPicPr>
        <p:blipFill>
          <a:blip r:embed="rId2"/>
          <a:stretch/>
        </p:blipFill>
        <p:spPr>
          <a:xfrm>
            <a:off x="2184480" y="1079640"/>
            <a:ext cx="5715000" cy="5394240"/>
          </a:xfrm>
          <a:prstGeom prst="rect">
            <a:avLst/>
          </a:prstGeom>
          <a:ln w="0">
            <a:noFill/>
          </a:ln>
        </p:spPr>
      </p:pic>
      <p:sp>
        <p:nvSpPr>
          <p:cNvPr id="64" name=""/>
          <p:cNvSpPr/>
          <p:nvPr/>
        </p:nvSpPr>
        <p:spPr>
          <a:xfrm>
            <a:off x="2184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en-Fu Chen et al. BMJ Qual Saf 2016;25:303-310</a:t>
            </a:r>
            <a:endParaRPr b="0" lang="en-US" sz="1200" spc="-1" strike="noStrike">
              <a:solidFill>
                <a:srgbClr val="000000"/>
              </a:solidFill>
              <a:latin typeface="Times New Roman"/>
            </a:endParaRPr>
          </a:p>
        </p:txBody>
      </p:sp>
      <p:sp>
        <p:nvSpPr>
          <p:cNvPr id="65"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