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Illustrative example of climate strength differences. ED, emergency depart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3980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atient safety climate strength: a concept that requires more atten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9800" y="2259000"/>
            <a:ext cx="8604360" cy="30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y Liane Ginsburg, and Debra Gilin O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38360" y="5641920"/>
            <a:ext cx="86040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MJ Qual Sa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Volume 25(9):680-6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ugust 17, 20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7289640"/>
            <a:ext cx="7559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BMJ Publishing Group Ltd and the Health Foundation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748720" y="6840360"/>
            <a:ext cx="900000" cy="5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llustrative example of climate strength differenc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748720" y="6840360"/>
            <a:ext cx="900000" cy="576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673280" y="1079640"/>
            <a:ext cx="6737400" cy="5394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673280" y="6583320"/>
            <a:ext cx="43196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iane Ginsburg, and Debra Gilin Oore BMJ Qual Saf 2016;25:680-68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8000" y="7289640"/>
            <a:ext cx="7559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BMJ Publishing Group Ltd and the Health Foundation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