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Model for Improvement; FO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RISMA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terative nature of cycles for all articles and split by plan–do–check–act and plan–do–study–act termi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stematic review of the application of the plan–do–study–act method to improve quality in health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Michael J Taylor, Chris McNicholas, Chris Nicolay, Ara Darzi, Derek Bell, and Julie E R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 Qual S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():bmjqs-2013-0018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ptember 11,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and the Health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Model for Improvement; FOC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39840" y="1079640"/>
            <a:ext cx="760428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3984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chael J Taylor et al. BMJ Qual Saf doi:10.1136/bmjqs-2013-00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and the Health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ISMA dia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54160" y="1079640"/>
            <a:ext cx="417852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541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chael J Taylor et al. BMJ Qual Saf doi:10.1136/bmjqs-2013-00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and the Health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rative nature of cycles for all articles and split by plan–do–check–act and plan–do–study–act termi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0320" y="1079640"/>
            <a:ext cx="856296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03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chael J Taylor et al. BMJ Qual Saf doi:10.1136/bmjqs-2013-00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and the Health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